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1F41-4F92-41C7-8B37-A0FD69B70847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705C-A888-46F0-9839-D20EA7265FFA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CB9C-C64C-4887-8D05-C3935661E397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446760" y="299880"/>
            <a:ext cx="67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The Case for Data Stewardship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Enhancing Your Reputation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jstor.org/stable/10.1525/bio.2009.59.5.9" TargetMode="External"/><Relationship Id="rId2" Type="http://schemas.openxmlformats.org/officeDocument/2006/relationships/hyperlink" Target="http://dx.doi.org/10.1038/415424a" TargetMode="External"/><Relationship Id="rId3" Type="http://schemas.openxmlformats.org/officeDocument/2006/relationships/hyperlink" Target="http://www.jstage.jst.go.jp/article/dsj/9/0/IGY95/_pdf" TargetMode="External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The Case for Data Stewardship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Enhancing Your Reputation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Matthew Mayernik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	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tional Center for Atmospheric Research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[Review Date]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Scientific Reputation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eputation is central to the scientific communit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esearchers build a reputation by producing valuable results, contributing constructively to scientific debates, and being good colleagu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eer-recognition influences one’s employment opportunities, promotion at work, and ability to win further research funding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putation and Data - Why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 re-use is growing in importance in almost all scientific field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re-use depends on the availability of trust-worthy data se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rust in data is highly connected to the reputation of the data collectors and data archiv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Having a reputation for collecting and sharing high quality and well documented data makes it more likely that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Other researchers will use your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Other researchers will cite your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Other researchers will share their data with you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putation and Data - How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How to get a reputation for data management?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Make data openly accessible by submitting to open data archiv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ovide comprehensive meta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nswer questions from data users in a timely manner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How to ensure that reputations for data management can grow?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ovide proper attribution when you use data collected by someone els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ite data sets in your reference lis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each proper data management and data attribution to new scientis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ostello, M. J. 2009. “Motivating Online Publication of Data.” </a:t>
            </a:r>
            <a:r>
              <a:rPr b="0" i="1" lang="en-US" sz="3400" spc="-1" strike="noStrike">
                <a:solidFill>
                  <a:srgbClr val="606060"/>
                </a:solidFill>
                <a:latin typeface="Helvetica Neue"/>
              </a:rPr>
              <a:t>BioScience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59(5): 418-427.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jstor.org/stable/10.1525/bio.2009.59.5.9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ilinski, M., D. Semmann, and H.-J. Krambeck. 2002. “Reputation Helps Solve the ‘Tragedy of the Commons’.” </a:t>
            </a:r>
            <a:r>
              <a:rPr b="0" i="1" lang="en-US" sz="3400" spc="-1" strike="noStrike">
                <a:solidFill>
                  <a:srgbClr val="606060"/>
                </a:solidFill>
                <a:latin typeface="Helvetica Neue"/>
              </a:rPr>
              <a:t>Nature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415(6870): 424-426.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http://dx.doi.org/10.1038/415424a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Barton, C., R. Smith, and R. Weaver. 2010. “Data practices, policy, and rewards in the information era demand a new paradigm.” </a:t>
            </a:r>
            <a:r>
              <a:rPr b="0" i="1" lang="en-US" sz="3400" spc="-1" strike="noStrike">
                <a:solidFill>
                  <a:srgbClr val="606060"/>
                </a:solidFill>
                <a:latin typeface="Helvetica Neue"/>
              </a:rPr>
              <a:t>Data Science Journal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9(12).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http://www.jstage.jst.go.jp/article/dsj/9/0/IGY95/_pdf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anaging your data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dvertising your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oviding access to your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Options for archiving your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 citation and credi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cp:keywords/>
  <dc:language>en-US</dc:language>
  <cp:lastModifiedBy>mayernik</cp:lastModifiedBy>
  <dcterms:modified xsi:type="dcterms:W3CDTF">2011-09-26T20:02:39Z</dcterms:modified>
  <cp:revision>238</cp:revision>
  <dc:subject/>
  <dc:title>ESIP Federation 101</dc:title>
</cp:coreProperties>
</file>